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12F-46B2-48AE-A54A-D2A24BF0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36B-1B80-423E-9C98-342C57D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4C7-5F19-4886-874F-16558CCD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D6F-5E9A-4733-AB65-E23BEFF1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4E2-9AFE-4906-A81D-D7B1AE4C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BE17-43DE-4FF3-94B1-60EC5BE8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4CD-9C75-4C2C-B551-30C9643F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377-0391-4354-9829-D9888595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F1C-7657-44E0-A903-34EC75E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7E8-FD8A-4FBD-8A20-8D99160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E51-0472-44F4-9466-360ECF7A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FB1-6AB3-4DC7-AA78-94B3F13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7F7-24C5-4AD3-9CCE-2D8A6ABB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Emmanuel Y Ed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 Es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Inv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Primav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 Ot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Ma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os Lop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Escri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Piza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8:58Z</dcterms:created>
  <dc:creator>WSFCS Workstation</dc:creator>
  <dc:description/>
  <dc:language>en-US</dc:language>
  <cp:lastModifiedBy>WSFCS Workstation</cp:lastModifiedBy>
  <dcterms:modified xsi:type="dcterms:W3CDTF">2010-04-27T19:00:07Z</dcterms:modified>
  <cp:revision>3</cp:revision>
  <dc:subject/>
  <dc:title>La Clase De Espanol</dc:title>
</cp:coreProperties>
</file>